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B059-8D4B-4075-BEF7-32D212716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1382-F0FD-404F-B391-18C3B8C03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45AD-2EC2-4D5A-8821-BF280783F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BE50-0206-4188-8C45-641791B4B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A9FC-1D3D-473D-9989-7A171F69B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6AEC-FCB9-4CE1-8881-20E5F04A1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C1FE-1771-433B-AC30-C94578F5C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EC0B-AE31-4D04-88B2-D7ECDC95A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5275-E59B-442D-ADFB-2B23BF3A2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CCDE-4209-425A-AC95-631BE3B2B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A43E-22B6-48BE-81CA-2E2268AB9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36AD-FAFC-4F65-A618-9352750C8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5303-E4AF-48E8-BA3A-F0F27DB3126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0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cording Transactions Using a General Journa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MEMORANDUM FOR SALES RETURNS AND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21_blue_102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46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3C2A-5F9B-41AA-AC9F-B6D26B6E0E2A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ALIZING SALES RETURNS AND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C21_blue_1023" descr=""/>
          <p:cNvPicPr/>
          <p:nvPr/>
        </p:nvPicPr>
        <p:blipFill>
          <a:blip r:embed="rId1"/>
          <a:srcRect l="896" t="0" r="0" b="25046"/>
          <a:stretch/>
        </p:blipFill>
        <p:spPr>
          <a:xfrm>
            <a:off x="1295280" y="2209680"/>
            <a:ext cx="6858000" cy="203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73120" y="330192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30192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37972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495440"/>
            <a:ext cx="8153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ch 11. Granted credit to Village Crafts for merchandise returned, $58.50, plus sales tax, $3.51, from S160; total, $62.01. Credit Memorandum No. 4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408924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7240" y="39625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4680" y="37972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38080" y="3556080"/>
            <a:ext cx="1295640" cy="320760"/>
            <a:chOff x="838080" y="3556080"/>
            <a:chExt cx="1295640" cy="320760"/>
          </a:xfrm>
        </p:grpSpPr>
        <p:sp>
          <p:nvSpPr>
            <p:cNvPr id="106" name=""/>
            <p:cNvSpPr/>
            <p:nvPr/>
          </p:nvSpPr>
          <p:spPr>
            <a:xfrm flipH="1">
              <a:off x="1066680" y="3733920"/>
              <a:ext cx="1067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355608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04920" y="44388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3880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sales tax am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768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es Returns and Allowa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477216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accounts to be credi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11344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credit memorandum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5105520"/>
            <a:ext cx="40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diagonal line in the Post. Ref. colum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0384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amount of the sales retu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697360"/>
            <a:ext cx="40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total accounts receivable am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0339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es Tax Pay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9EE4-03EE-4443-9448-3D83F780FEED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E8A2-67BB-480E-8BC3-9CA09A7BE1F8}" type="slidenum">
              <a:t>4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48:16Z</dcterms:created>
  <dc:creator>M. C. McLaughlin</dc:creator>
  <dc:description/>
  <dc:language>en-US</dc:language>
  <cp:lastModifiedBy>M. C. McLaughlin</cp:lastModifiedBy>
  <dcterms:modified xsi:type="dcterms:W3CDTF">2005-04-22T22:06:25Z</dcterms:modified>
  <cp:revision>19</cp:revision>
  <dc:subject/>
  <dc:title>Lesson 10-1</dc:title>
</cp:coreProperties>
</file>